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gif" ContentType="image/gif"/>
  <Override PartName="/ppt/media/NEW1_01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4B64-C074-4E30-8E87-B197A76BA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D6B7-BE45-486F-BDA0-D9EE69B5F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FF0F-0AF5-48B1-8C7C-040DF9089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7A37-90ED-4C28-AA5F-E6936F2B9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BA6B-9305-46EB-BE2A-469E6DECB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47D9-8137-4D66-A928-A2F3573F5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820A-79BA-4383-B351-ED52D3E00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E3C0-098E-48FA-BA05-1B23D22EC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D406-08CE-4250-AC80-87FBCF70B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533E-0E4F-42E9-A119-96756BCEC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CD09-6AF9-475F-AB1B-2B9829CDE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9B3F-9C56-4025-A30B-9050B2869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7614-DAC8-4393-BE39-8FAD2ADDB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A2C3-D943-496D-9978-623079555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F0A2-D89E-4DC6-B317-AFF6122CF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DD5A-9CE2-4AFE-81E4-67FE5B5A4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3E1C-9C9D-48EF-B1D3-FEEB38F9C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7DCB-F92C-4357-84BF-57B8C8451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1B5C-52C7-4FD1-ACF0-B63E303ED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D448-DBC3-4E9A-B128-FF52B283B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F597-9FAD-42BB-8757-C5147AEF5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C680-28C4-4DE1-8025-C2CB67E00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2228-8377-4104-B821-59616EB25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EF66-294E-43CB-B9B8-18E72A6B3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9DF0-A36F-4483-9339-DB878ED25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EF34-CEFC-491D-A238-BE1F1DAAA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4C9F-0885-4C5A-82EE-A2AFB9DFD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F259-182E-4E36-BDCB-315124A0E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C41E-0F2F-401D-94F5-B2767A17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E6B-4A95-41C8-BEC8-5DBBCCA8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0A63-B2E4-450C-842B-9F0C169E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C8D2-F935-4DC1-A0B7-A7099076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F687-16CA-4CA7-8E5E-7AA42642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C353-264C-4560-9828-48BF6B90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7B5-1D60-400E-A306-8D021015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D89-36C9-4811-826F-7BA06763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F22E-55BC-4B21-80DD-40A8C85C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500-5A25-425F-A44F-8068A8CE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9AA5-8CCF-4786-A62E-53391864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0268-360F-4906-970F-9BAB0DCC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6FAE-68C9-48C5-9915-C5406047E8DE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NEW1_01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1"/>
          <p:cNvSpPr/>
          <p:nvPr/>
        </p:nvSpPr>
        <p:spPr>
          <a:xfrm>
            <a:off x="2057400" y="2362320"/>
            <a:ext cx="64771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0" y="0"/>
            <a:ext cx="9144000" cy="65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0" spc="-1" strike="noStrike">
                <a:solidFill>
                  <a:srgbClr val="3333cc"/>
                </a:solidFill>
                <a:latin typeface="B Nazanin"/>
                <a:cs typeface="B Nazanin Outline"/>
              </a:rPr>
              <a:t>پسربچه و</a:t>
            </a:r>
            <a:r>
              <a:rPr b="1" lang="ar-SA" sz="12000" spc="-1" strike="noStrike">
                <a:solidFill>
                  <a:srgbClr val="ccccff"/>
                </a:solidFill>
                <a:latin typeface="B Nazanin"/>
                <a:ea typeface="B Nazanin Outline"/>
              </a:rPr>
              <a:t> </a:t>
            </a:r>
            <a:r>
              <a:rPr b="1" lang="ar-SA" sz="12000" spc="-1" strike="noStrike">
                <a:solidFill>
                  <a:srgbClr val="ff3300"/>
                </a:solidFill>
                <a:latin typeface="B Nazanin"/>
                <a:cs typeface="B Nazanin Outline"/>
              </a:rPr>
              <a:t>درخت سیب</a:t>
            </a:r>
            <a:r>
              <a:rPr b="1" lang="ar-SA" sz="12000" spc="-1" strike="noStrike">
                <a:solidFill>
                  <a:srgbClr val="ccccff"/>
                </a:solidFill>
                <a:latin typeface="B Nazanin"/>
                <a:ea typeface="B Nazanin Outline"/>
              </a:rPr>
              <a:t> 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  <a:ea typeface="B Nazanin"/>
              </a:rPr>
              <a:t>( </a:t>
            </a:r>
            <a:r>
              <a:rPr b="1" lang="ar-SA" sz="2800" spc="-1" strike="noStrike">
                <a:solidFill>
                  <a:srgbClr val="009900"/>
                </a:solidFill>
                <a:latin typeface="Times New Roman"/>
                <a:cs typeface="B Nazanin"/>
              </a:rPr>
              <a:t>همراه صدا</a:t>
            </a:r>
            <a:r>
              <a:rPr b="1" lang="ar-SA" sz="2800" spc="-1" strike="noStrike">
                <a:solidFill>
                  <a:srgbClr val="009900"/>
                </a:solidFill>
                <a:latin typeface="Times New Roman"/>
                <a:ea typeface="B Nazanin"/>
              </a:rPr>
              <a:t>  </a:t>
            </a:r>
            <a:r>
              <a:rPr b="1" lang="ar-SA" sz="2800" spc="-1" strike="noStrike">
                <a:solidFill>
                  <a:srgbClr val="009900"/>
                </a:solidFill>
                <a:latin typeface="Times New Roman"/>
                <a:ea typeface="B Nazanin"/>
              </a:rPr>
              <a:t>)</a:t>
            </a:r>
            <a:r>
              <a:rPr b="1" lang="ar-SA" sz="4000" spc="-1" strike="noStrike">
                <a:solidFill>
                  <a:srgbClr val="ccff33"/>
                </a:solidFill>
                <a:latin typeface="Times New Roman"/>
                <a:ea typeface="B Nazani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9" descr="GA2-130"/>
          <p:cNvPicPr/>
          <p:nvPr/>
        </p:nvPicPr>
        <p:blipFill>
          <a:blip r:embed="rId1"/>
          <a:stretch/>
        </p:blipFill>
        <p:spPr>
          <a:xfrm>
            <a:off x="3962520" y="4038480"/>
            <a:ext cx="1028520" cy="1096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out"/>
    <p:sndAc>
      <p:stSnd>
        <p:snd r:embed="rId2" name="NEW1_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026"/>
          <p:cNvSpPr/>
          <p:nvPr/>
        </p:nvSpPr>
        <p:spPr>
          <a:xfrm>
            <a:off x="1828800" y="457200"/>
            <a:ext cx="579132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مدتها گذشت و پسر مبدل به مرد جوانی ش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و با اضطراب سراغ درخت آمد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28" descr="008"/>
          <p:cNvPicPr/>
          <p:nvPr/>
        </p:nvPicPr>
        <p:blipFill>
          <a:blip r:embed="rId1"/>
          <a:stretch/>
        </p:blipFill>
        <p:spPr>
          <a:xfrm>
            <a:off x="457200" y="1752480"/>
            <a:ext cx="4267080" cy="44960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29"/>
          <p:cNvSpPr/>
          <p:nvPr/>
        </p:nvSpPr>
        <p:spPr>
          <a:xfrm>
            <a:off x="4572000" y="2209680"/>
            <a:ext cx="4572000" cy="38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ea typeface="B Titr"/>
              </a:rPr>
              <a:t>« چرا غمگینی ؟ 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cs typeface="B Titr"/>
              </a:rPr>
              <a:t>درخت از او پرسید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ea typeface="B Titr"/>
              </a:rPr>
              <a:t>« بیا و در سایه ام بنشی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cs typeface="B Titr"/>
              </a:rPr>
              <a:t>بدون ت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ea typeface="B Titr"/>
              </a:rPr>
              <a:t> خیلی احساس تنهائی می کنم... 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4267080" y="1371600"/>
            <a:ext cx="487692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پسر ( مرد جوان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جواب داد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B Titr"/>
                <a:ea typeface="B Titr"/>
              </a:rPr>
              <a:t>« فرصت کافی ندارم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B Titr"/>
                <a:cs typeface="B Titr"/>
              </a:rPr>
              <a:t>باید برای خانواده ام تلاش کنم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B Titr"/>
                <a:cs typeface="B Titr"/>
              </a:rPr>
              <a:t>باید برایشان خانه ای بسازم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B Titr"/>
                <a:cs typeface="B Titr"/>
              </a:rPr>
              <a:t>نیاز به سرمایه دارم ..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009"/>
          <p:cNvPicPr/>
          <p:nvPr/>
        </p:nvPicPr>
        <p:blipFill>
          <a:blip r:embed="rId1"/>
          <a:stretch/>
        </p:blipFill>
        <p:spPr>
          <a:xfrm>
            <a:off x="457200" y="838080"/>
            <a:ext cx="4173480" cy="51818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4495680" y="1066680"/>
            <a:ext cx="4648320" cy="48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درخت گفت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«  سرمایه ای برای کمک ندارم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تو می توانی با شاخه های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و تنه ام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برای خودت خانه بسازی ... 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010"/>
          <p:cNvPicPr/>
          <p:nvPr/>
        </p:nvPicPr>
        <p:blipFill>
          <a:blip r:embed="rId1"/>
          <a:stretch/>
        </p:blipFill>
        <p:spPr>
          <a:xfrm>
            <a:off x="685800" y="685800"/>
            <a:ext cx="4038480" cy="51055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3048120" y="53352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پسر خوشحال شد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011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037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902520" y="5867280"/>
            <a:ext cx="721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ea typeface="B Titr"/>
              </a:rPr>
              <a:t>... و تمام شاخه ها و تنه ی درخت را بری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371600" y="52578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و با آنها ...  خانه ای برای خودش ساخت ...</a:t>
            </a:r>
            <a:r>
              <a:rPr b="1" lang="ar-SA" sz="2800" spc="-1" strike="noStrike">
                <a:solidFill>
                  <a:srgbClr val="000000"/>
                </a:solidFill>
                <a:latin typeface="B Titr"/>
                <a:ea typeface="B Tit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012"/>
          <p:cNvPicPr/>
          <p:nvPr/>
        </p:nvPicPr>
        <p:blipFill>
          <a:blip r:embed="rId1"/>
          <a:stretch/>
        </p:blipFill>
        <p:spPr>
          <a:xfrm>
            <a:off x="1523880" y="588960"/>
            <a:ext cx="6019920" cy="44244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762120" y="762120"/>
            <a:ext cx="7391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cs typeface="B Titr"/>
              </a:rPr>
              <a:t>دوباره درخت تنها مان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ea typeface="B Titr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ea typeface="B Titr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cs typeface="B Titr"/>
              </a:rPr>
              <a:t>و پسر بر نگش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ea typeface="B Titr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ea typeface="B Titr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cs typeface="B Titr"/>
              </a:rPr>
              <a:t>زمانی طولانی بسر آم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ea typeface="B Titr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ea typeface="B Titr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600200" y="1143000"/>
            <a:ext cx="541008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 </a:t>
            </a:r>
            <a:r>
              <a:rPr b="1" lang="ar-SA" sz="3600" spc="-1" strike="noStrike">
                <a:solidFill>
                  <a:srgbClr val="3333cc"/>
                </a:solidFill>
                <a:latin typeface="B Titr"/>
                <a:cs typeface="B Titr"/>
              </a:rPr>
              <a:t>پس از سالیان دراز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cs typeface="B Titr"/>
              </a:rPr>
              <a:t>در حالی برگش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cs typeface="B Titr"/>
              </a:rPr>
              <a:t>که پیر بود و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cs typeface="B Titr"/>
              </a:rPr>
              <a:t>غمگین و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cs typeface="B Titr"/>
              </a:rPr>
              <a:t>خسته و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B Titr"/>
                <a:cs typeface="B Titr"/>
              </a:rPr>
              <a:t>تن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2743200" y="685800"/>
            <a:ext cx="55627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 درخت از او پرسید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« چرا غمگینی 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ای کاش می توانستم ...  کمکت کنم 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0130"/>
          <p:cNvPicPr/>
          <p:nvPr/>
        </p:nvPicPr>
        <p:blipFill>
          <a:blip r:embed="rId1"/>
          <a:stretch/>
        </p:blipFill>
        <p:spPr>
          <a:xfrm>
            <a:off x="533520" y="533520"/>
            <a:ext cx="1780920" cy="5943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0140"/>
          <p:cNvPicPr/>
          <p:nvPr/>
        </p:nvPicPr>
        <p:blipFill>
          <a:blip r:embed="rId2"/>
          <a:stretch/>
        </p:blipFill>
        <p:spPr>
          <a:xfrm>
            <a:off x="2895480" y="2638440"/>
            <a:ext cx="5086440" cy="34275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743200" y="685800"/>
            <a:ext cx="55627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 Titr"/>
                <a:ea typeface="B Titr"/>
              </a:rPr>
              <a:t>….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  اما دیگر .... نه سیب دارم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نه شاخه و تن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حتی سایه هم ندارم برای پناه دادن به تو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0130"/>
          <p:cNvPicPr/>
          <p:nvPr/>
        </p:nvPicPr>
        <p:blipFill>
          <a:blip r:embed="rId1"/>
          <a:stretch/>
        </p:blipFill>
        <p:spPr>
          <a:xfrm>
            <a:off x="533520" y="533520"/>
            <a:ext cx="1780920" cy="5943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0140"/>
          <p:cNvPicPr/>
          <p:nvPr/>
        </p:nvPicPr>
        <p:blipFill>
          <a:blip r:embed="rId2"/>
          <a:stretch/>
        </p:blipFill>
        <p:spPr>
          <a:xfrm>
            <a:off x="3429000" y="2666880"/>
            <a:ext cx="5086440" cy="34275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1507320" y="3962520"/>
            <a:ext cx="363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هیچ چیز برا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بخشیدن ندارم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.. 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743200" y="685800"/>
            <a:ext cx="55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پسر ( پیر مرد ) درجواب گفت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« خسته ام از این زندگ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3333cc"/>
                </a:solidFill>
                <a:latin typeface="B Titr"/>
                <a:ea typeface="B Tit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و تنها هم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0130"/>
          <p:cNvPicPr/>
          <p:nvPr/>
        </p:nvPicPr>
        <p:blipFill>
          <a:blip r:embed="rId1"/>
          <a:stretch/>
        </p:blipFill>
        <p:spPr>
          <a:xfrm>
            <a:off x="533520" y="533520"/>
            <a:ext cx="1780920" cy="5943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0140"/>
          <p:cNvPicPr/>
          <p:nvPr/>
        </p:nvPicPr>
        <p:blipFill>
          <a:blip r:embed="rId2"/>
          <a:stretch/>
        </p:blipFill>
        <p:spPr>
          <a:xfrm>
            <a:off x="2895480" y="2638440"/>
            <a:ext cx="5086440" cy="34275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"/>
          <p:cNvSpPr/>
          <p:nvPr/>
        </p:nvSpPr>
        <p:spPr>
          <a:xfrm>
            <a:off x="6400800" y="1447920"/>
            <a:ext cx="25146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ea typeface="B Titr"/>
              </a:rPr>
              <a:t> يكی نبو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يكی بود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در روزگاران قدي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درخت سيب تنومندي بود 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با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9" descr="001"/>
          <p:cNvPicPr/>
          <p:nvPr/>
        </p:nvPicPr>
        <p:blipFill>
          <a:blip r:embed="rId1"/>
          <a:stretch/>
        </p:blipFill>
        <p:spPr>
          <a:xfrm>
            <a:off x="533520" y="685800"/>
            <a:ext cx="5867280" cy="53341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590920" y="1219320"/>
            <a:ext cx="5562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فقط نیازمند بودن با تو ام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آیا می توانم کنارت بنشینم ؟ 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0130"/>
          <p:cNvPicPr/>
          <p:nvPr/>
        </p:nvPicPr>
        <p:blipFill>
          <a:blip r:embed="rId1"/>
          <a:stretch/>
        </p:blipFill>
        <p:spPr>
          <a:xfrm>
            <a:off x="533520" y="533520"/>
            <a:ext cx="1780920" cy="5943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0140"/>
          <p:cNvPicPr/>
          <p:nvPr/>
        </p:nvPicPr>
        <p:blipFill>
          <a:blip r:embed="rId2"/>
          <a:stretch/>
        </p:blipFill>
        <p:spPr>
          <a:xfrm>
            <a:off x="2895480" y="2638440"/>
            <a:ext cx="5086440" cy="3427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4345920" y="317016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559240" y="3733920"/>
            <a:ext cx="64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</a:t>
            </a:r>
            <a:r>
              <a:rPr b="1" lang="en-US" sz="2800" spc="-1" strike="noStrike">
                <a:solidFill>
                  <a:srgbClr val="3333cc"/>
                </a:solidFill>
                <a:latin typeface="B Titr"/>
                <a:ea typeface="B Titr"/>
              </a:rPr>
              <a:t>. 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</a:t>
            </a:r>
            <a:r>
              <a:rPr b="1" lang="en-US" sz="2800" spc="-1" strike="noStrike">
                <a:solidFill>
                  <a:srgbClr val="3333cc"/>
                </a:solidFill>
                <a:latin typeface="B Titr"/>
                <a:ea typeface="B Titr"/>
              </a:rPr>
              <a:t>. 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</a:t>
            </a:r>
            <a:r>
              <a:rPr b="1" lang="en-US" sz="2800" spc="-1" strike="noStrike">
                <a:solidFill>
                  <a:srgbClr val="3333cc"/>
                </a:solidFill>
                <a:latin typeface="B Titr"/>
                <a:ea typeface="B Titr"/>
              </a:rPr>
              <a:t>. 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5791320" y="533520"/>
            <a:ext cx="2971800" cy="64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 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پسر ( پیر مرد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کنار درخت نشست . . .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با هم بودن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به سالیان و به سالیان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در لحظه های شادی و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اندوه 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015"/>
          <p:cNvPicPr/>
          <p:nvPr/>
        </p:nvPicPr>
        <p:blipFill>
          <a:blip r:embed="rId1"/>
          <a:stretch/>
        </p:blipFill>
        <p:spPr>
          <a:xfrm>
            <a:off x="304920" y="762120"/>
            <a:ext cx="5244840" cy="5257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838080" y="762120"/>
            <a:ext cx="746784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 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آن پسر آیا بی رحم  و  خود خواه بود ؟؟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  <a:cs typeface="B Titr"/>
              </a:rPr>
              <a:t>؟؟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Times New Roman"/>
                <a:cs typeface="B Titr"/>
              </a:rPr>
              <a:t>؟؟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cc"/>
                </a:solidFill>
                <a:latin typeface="Times New Roman"/>
                <a:cs typeface="B Titr"/>
              </a:rPr>
              <a:t>؟؟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  <a:cs typeface="B Titr"/>
              </a:rPr>
              <a:t>؟؟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838080" y="762120"/>
            <a:ext cx="7848720" cy="57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0000"/>
                </a:solidFill>
                <a:latin typeface="B Titr"/>
                <a:ea typeface="B Titr"/>
              </a:rPr>
              <a:t> </a:t>
            </a:r>
            <a:r>
              <a:rPr b="1" lang="ar-SA" sz="12100" spc="-1" strike="noStrike">
                <a:solidFill>
                  <a:srgbClr val="ff0000"/>
                </a:solidFill>
                <a:latin typeface="Times New Roman"/>
                <a:cs typeface="B Titr"/>
              </a:rPr>
              <a:t>نه . . .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  <a:ea typeface="B Titr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Times New Roman"/>
                <a:cs typeface="B Titr"/>
              </a:rPr>
              <a:t>ما همه شبیه او هستیم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  <a:ea typeface="B Tit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Times New Roman"/>
                <a:cs typeface="B Titr"/>
              </a:rPr>
              <a:t>و با والدین خود چنین رفتاری داریم ...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  <a:ea typeface="B Tit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00"/>
                </a:solidFill>
                <a:latin typeface="Times New Roman"/>
                <a:cs typeface="B Titr"/>
              </a:rPr>
              <a:t>؟؟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38080" y="457200"/>
            <a:ext cx="7467840" cy="56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درخت همان والدین ماست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تا کوچکیم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دوست داریم با آنها بازی کنی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تنهایشان می گذاریم بعد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و زمانی بسویشان  برمی گردی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B Titr"/>
                <a:cs typeface="B Titr"/>
              </a:rPr>
              <a:t>که نیازمند هستی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Times New Roman"/>
                <a:cs typeface="B Titr"/>
              </a:rPr>
              <a:t>یا گرفتار</a:t>
            </a:r>
            <a:r>
              <a:rPr b="1" lang="ar-SA" sz="4400" spc="-1" strike="noStrike">
                <a:solidFill>
                  <a:srgbClr val="ff0000"/>
                </a:solidFill>
                <a:latin typeface="B Titr"/>
                <a:ea typeface="B Tit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457200" y="380880"/>
            <a:ext cx="8305920" cy="76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برای والدین خود وقت نمی گذاریم ...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ea typeface="B Titr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Times New Roman"/>
                <a:cs typeface="B Titr"/>
              </a:rPr>
              <a:t>به این مهم توجه نمی کنیم که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  <a:cs typeface="B Titr"/>
              </a:rPr>
              <a:t>پدر و مادر ها همیشه به ما همه چیز می دهن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3333cc"/>
                </a:solidFill>
                <a:latin typeface="B Titr"/>
                <a:ea typeface="B Tit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B Titr"/>
                <a:cs typeface="B Titr"/>
              </a:rPr>
              <a:t>تا شاد  مان  کنن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B Titr"/>
                <a:cs typeface="B Titr"/>
              </a:rPr>
              <a:t>و مشکلاتمان را حل 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B Titr"/>
              </a:rPr>
              <a:t>... و تنها چیزی که در عوض می خواهند اینکه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B Titr"/>
              </a:rPr>
              <a:t> </a:t>
            </a:r>
            <a:r>
              <a:rPr b="1" lang="ar-SA" sz="4400" spc="-1" strike="noStrike">
                <a:solidFill>
                  <a:srgbClr val="009900"/>
                </a:solidFill>
                <a:latin typeface="Times New Roman"/>
                <a:ea typeface="B Titr"/>
              </a:rPr>
              <a:t>***  تنهایشان نگذاریم ***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B Tit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38080" y="457200"/>
            <a:ext cx="746784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B Titr"/>
                <a:ea typeface="B Titr"/>
              </a:rPr>
              <a:t> به والدین خود عشق بورزی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فراموششان نکنی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B Titr"/>
                <a:cs typeface="B Titr"/>
              </a:rPr>
              <a:t>برایشان زمان اختصاص دهی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00"/>
                </a:solidFill>
                <a:latin typeface="B Titr"/>
                <a:cs typeface="B Titr"/>
              </a:rPr>
              <a:t>همراهی شان کنی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33"/>
                </a:solidFill>
                <a:latin typeface="B Titr"/>
                <a:cs typeface="B Titr"/>
              </a:rPr>
              <a:t>شادی آن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33"/>
                </a:solidFill>
                <a:latin typeface="B Titr"/>
                <a:ea typeface="B Titr"/>
              </a:rPr>
              <a:t> شما را شاد دیدن اس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66ff"/>
                </a:solidFill>
                <a:latin typeface="B Titr"/>
                <a:cs typeface="B Titr"/>
              </a:rPr>
              <a:t>گرامی بداریدش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9900"/>
                </a:solidFill>
                <a:latin typeface="B Titr"/>
                <a:cs typeface="B Titr"/>
              </a:rPr>
              <a:t>و ترکشان نکنی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3"/>
          <p:cNvSpPr/>
          <p:nvPr/>
        </p:nvSpPr>
        <p:spPr>
          <a:xfrm>
            <a:off x="914400" y="4038480"/>
            <a:ext cx="7238880" cy="1981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838080" y="762120"/>
            <a:ext cx="7467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 هر کس می تواند هر زمان و به هر تعدا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فرزند داشته باش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B Titr"/>
                <a:cs typeface="B Titr"/>
              </a:rPr>
              <a:t>ولی پدر و مادر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B Titr"/>
                <a:cs typeface="B Titr"/>
              </a:rPr>
              <a:t>فقط یکبا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 Titr"/>
                <a:cs typeface="B Titr"/>
              </a:rPr>
              <a:t>برای نشان دادن احترام خود به والدین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 Titr"/>
                <a:cs typeface="B Titr"/>
              </a:rPr>
              <a:t>این</a:t>
            </a:r>
            <a:r>
              <a:rPr b="1" lang="en-US" sz="2400" spc="-1" strike="noStrike">
                <a:solidFill>
                  <a:srgbClr val="ffffff"/>
                </a:solidFill>
                <a:latin typeface="B Titr"/>
                <a:ea typeface="B Titr"/>
              </a:rPr>
              <a:t> </a:t>
            </a:r>
            <a:r>
              <a:rPr b="1" lang="fa-IR" sz="2400" spc="-1" strike="noStrike">
                <a:solidFill>
                  <a:srgbClr val="ffffff"/>
                </a:solidFill>
                <a:latin typeface="B Titr"/>
                <a:ea typeface="B Titr"/>
              </a:rPr>
              <a:t> فایل</a:t>
            </a:r>
            <a:r>
              <a:rPr b="1" lang="ar-SA" sz="2400" spc="-1" strike="noStrike">
                <a:solidFill>
                  <a:srgbClr val="ffffff"/>
                </a:solidFill>
                <a:latin typeface="B Titr"/>
                <a:ea typeface="B Titr"/>
              </a:rPr>
              <a:t> را برای تمام دوستانتان بفرستی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02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1055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362320" y="571500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B Titr"/>
              </a:rPr>
              <a:t> 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ea typeface="B Titr"/>
              </a:rPr>
              <a:t>.........</a:t>
            </a: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B Titr"/>
              </a:rPr>
              <a:t>پسر بچه كوچك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5867280" y="1066680"/>
            <a:ext cx="2971800" cy="67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 این پسر بچه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خیلی دوست داش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با اين درخت سيب مدام بازي كند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از تنه اش بالا رو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از سيبهايش بچيند و بخور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و در سايه اش بخواب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003"/>
          <p:cNvPicPr/>
          <p:nvPr/>
        </p:nvPicPr>
        <p:blipFill>
          <a:blip r:embed="rId1"/>
          <a:stretch/>
        </p:blipFill>
        <p:spPr>
          <a:xfrm>
            <a:off x="609480" y="609480"/>
            <a:ext cx="5083200" cy="563904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905120" y="762120"/>
            <a:ext cx="5105160" cy="62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 زمان گذشت 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پسر بچ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بزرگتر شد و به درخت بي اعتن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ديگر دوست نداشت با او بازي كن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اما  روزي دوباره به سراغ درخت آم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562720" y="1981080"/>
            <a:ext cx="297180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 درخت سي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به پسر گفت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« های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بيا و با م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بازي كن... 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004"/>
          <p:cNvPicPr/>
          <p:nvPr/>
        </p:nvPicPr>
        <p:blipFill>
          <a:blip r:embed="rId1"/>
          <a:stretch/>
        </p:blipFill>
        <p:spPr>
          <a:xfrm>
            <a:off x="609480" y="914400"/>
            <a:ext cx="4859280" cy="5410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648320" y="762120"/>
            <a:ext cx="403848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پسر جواب داد 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« من كه ديگر بچه نيست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3333cc"/>
                </a:solidFill>
                <a:latin typeface="B Titr"/>
                <a:ea typeface="B Tit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كه بخواهم با درخت سي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 بازي كنم...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B Titr"/>
                <a:ea typeface="B Titr"/>
              </a:rPr>
              <a:t>« به دنبال سرگرمي هائ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B Titr"/>
                <a:ea typeface="B Titr"/>
              </a:rPr>
              <a:t> بهتر هست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B Titr"/>
                <a:cs typeface="B Titr"/>
              </a:rPr>
              <a:t>و براي خريدن آن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B Titr"/>
                <a:cs typeface="B Titr"/>
              </a:rPr>
              <a:t>پول لازم دارم . »</a:t>
            </a:r>
            <a:r>
              <a:rPr b="1" lang="ar-SA" sz="3200" spc="-1" strike="noStrike">
                <a:solidFill>
                  <a:srgbClr val="000000"/>
                </a:solidFill>
                <a:latin typeface="B Titr"/>
                <a:ea typeface="B Tit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005"/>
          <p:cNvPicPr/>
          <p:nvPr/>
        </p:nvPicPr>
        <p:blipFill>
          <a:blip r:embed="rId1"/>
          <a:stretch/>
        </p:blipFill>
        <p:spPr>
          <a:xfrm>
            <a:off x="609480" y="533520"/>
            <a:ext cx="3996000" cy="56386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5181480" y="1143000"/>
            <a:ext cx="297180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ea typeface="B Titr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cs typeface="B Titr"/>
              </a:rPr>
              <a:t>درخت گفت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ea typeface="B Titr"/>
              </a:rPr>
              <a:t>« پول ندارم م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cs typeface="B Titr"/>
              </a:rPr>
              <a:t>ولي تو مي توا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ea typeface="B Titr"/>
              </a:rPr>
              <a:t> سيب هاي مرا بچي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cs typeface="B Titr"/>
              </a:rPr>
              <a:t>بفروش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B Titr"/>
                <a:cs typeface="B Titr"/>
              </a:rPr>
              <a:t>و پول بدست آوري. 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006"/>
          <p:cNvPicPr/>
          <p:nvPr/>
        </p:nvPicPr>
        <p:blipFill>
          <a:blip r:embed="rId1"/>
          <a:stretch/>
        </p:blipFill>
        <p:spPr>
          <a:xfrm>
            <a:off x="762120" y="533520"/>
            <a:ext cx="377820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219320" y="685800"/>
            <a:ext cx="7315200" cy="62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 پسر تمام سيب های درخت را چيد و رف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سيبها را   فروخت و آنچه را که  نياز داشت خري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و 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درخت را </a:t>
            </a:r>
            <a:r>
              <a:rPr b="1" lang="fa-IR" sz="2800" spc="-1" strike="noStrike">
                <a:solidFill>
                  <a:srgbClr val="3333cc"/>
                </a:solidFill>
                <a:latin typeface="B Titr"/>
                <a:cs typeface="B Titr"/>
              </a:rPr>
              <a:t>باز </a:t>
            </a: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فراموش کرد ..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و پيشش  نيامد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cs typeface="B Titr"/>
              </a:rPr>
              <a:t>و درخت دوباره غمگين شد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B Titr"/>
                <a:ea typeface="B Titr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007"/>
          <p:cNvPicPr/>
          <p:nvPr/>
        </p:nvPicPr>
        <p:blipFill>
          <a:blip r:embed="rId1"/>
          <a:stretch/>
        </p:blipFill>
        <p:spPr>
          <a:xfrm>
            <a:off x="609480" y="2057400"/>
            <a:ext cx="2586240" cy="39625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6T15:11:27Z</dcterms:created>
  <dc:creator>www.honarestan.hostzi.com</dc:creator>
  <dc:description/>
  <dc:language>en-US</dc:language>
  <cp:lastModifiedBy>Faramarz</cp:lastModifiedBy>
  <dcterms:modified xsi:type="dcterms:W3CDTF">2014-10-12T07:28:00Z</dcterms:modified>
  <cp:revision>2</cp:revision>
  <dc:subject/>
  <dc:title>PowerPoint Presentation</dc:title>
</cp:coreProperties>
</file>