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FA39-B4D1-4B6C-AE86-CC8B9D72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2743-450C-454A-8996-1A3D0E1C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9569-D320-4BD7-AE3C-1EE91264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301A-0BC9-4B04-9AE2-566CE6B3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8B6-647C-45C5-A9BD-53AF72B6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4B79-119C-4372-AEC4-6A95C064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48C3-0567-4DBF-9C73-37923358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3771-67CE-4FDC-9C5E-34E6EDE7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7424-5EF8-4632-8CB7-E9861705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67D8-645D-411B-B6EC-6CF855F1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29BB-5944-43D4-AA1E-A5BD2502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EA10-FA95-4D69-9C16-A371AF0E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CE95-E87E-404B-B1F4-EE1641EA44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2T10:43:44Z</dcterms:created>
  <dc:creator>mh</dc:creator>
  <dc:description/>
  <dc:language>en-US</dc:language>
  <cp:lastModifiedBy>Faramarz</cp:lastModifiedBy>
  <dcterms:modified xsi:type="dcterms:W3CDTF">2014-10-04T11:31:20Z</dcterms:modified>
  <cp:revision>2</cp:revision>
  <dc:subject/>
  <dc:title>Slide 1</dc:title>
</cp:coreProperties>
</file>